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1F7C-0D36-4618-9ACA-884F12570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FE81-8750-49AD-9D87-1DB407179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75BD-27B2-4B38-AE6B-8ABBA3F58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FBFA-3DCD-42DD-B49B-B3C09B2F3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04FA-215D-43E7-BE59-F7E0E0648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A761E-D129-4F50-BF03-37A424A70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F587-8E28-4066-9EC2-9636F0ED6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FBA0-3540-48F6-966A-24C60E55B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CF6C-2504-4E2B-834A-D3C29C3F9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6AF6-E3C8-4FEE-8B25-F68434D6E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DA4E-CCF4-4817-B00F-BFFAD6DF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3BDC-86EB-47CA-B8F1-A8598CC6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F8101-FEA0-4720-9123-0E5561D813E6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甦醒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(1/3) 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[Awakening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928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甦醒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甦醒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(2/3) 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[Awakening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62928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甦醒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甦醒 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(3/3)</a:t>
            </a:r>
            <a:br>
              <a:rPr sz="4400"/>
            </a:br>
            <a:r>
              <a:rPr b="0" lang="zh-TW" sz="4400" spc="-1" strike="noStrike">
                <a:solidFill>
                  <a:srgbClr val="000000"/>
                </a:solidFill>
                <a:latin typeface="Arial"/>
                <a:ea typeface="新細明體"/>
              </a:rPr>
              <a:t>[Awakening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629280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  <a:ea typeface="全真粗黑體"/>
              </a:rPr>
              <a:t>甦醒</a:t>
            </a:r>
            <a:r>
              <a:rPr b="0" lang="zh-TW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1:29:44Z</dcterms:created>
  <dc:creator> </dc:creator>
  <dc:description/>
  <dc:language>en-US</dc:language>
  <cp:lastModifiedBy> </cp:lastModifiedBy>
  <dcterms:modified xsi:type="dcterms:W3CDTF">2004-06-16T01:30:10Z</dcterms:modified>
  <cp:revision>1</cp:revision>
  <dc:subject/>
  <dc:title>甦醒 (1/3)  [Awakening]</dc:title>
</cp:coreProperties>
</file>