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11A-D989-4C54-BC8E-F0EE6EF7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433-A252-4CF6-BA41-10CF4152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241-4F97-4926-BBF9-926F405C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8D9-88F4-4A19-81F6-810CE173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473-4BC2-478F-A67A-A9FB9054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2D8-3E89-4EE6-A3F7-AB648E9A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F44-2F2B-45EE-90DE-4606FA85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BD0-7B4B-4A9F-8616-5310C455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F99-637B-49C6-8543-1F114FC8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46C-2136-4275-BF78-BD8188AA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C58-BB61-47E5-9AE7-32CE159B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7F6B-4E65-46FB-8609-F6BA4EB3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0259-B9C5-4FC7-9FFB-E1074294A0C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序曲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1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rship Pre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59:32Z</dcterms:created>
  <dc:creator> </dc:creator>
  <dc:description/>
  <dc:language>en-US</dc:language>
  <cp:lastModifiedBy> </cp:lastModifiedBy>
  <dcterms:modified xsi:type="dcterms:W3CDTF">2004-06-17T00:59:38Z</dcterms:modified>
  <cp:revision>1</cp:revision>
  <dc:subject/>
  <dc:title>序曲 &lt;1/1&gt; Worship Prelude</dc:title>
</cp:coreProperties>
</file>