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C7F3-06E4-45A9-84F0-ED74E715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3F1-EDA0-4988-B110-BE9A17FD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AB2B-0454-4F7A-B139-452A5C0E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7C0-7F4D-4593-A7D3-BD9D0983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5A5-757B-485D-BBEC-FEB43998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F50-696C-4155-A1C5-EADF697D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BC6-12C4-47E7-96ED-D3AF7A49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1ED-6AB7-41FA-A947-A72CBB5E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D13-431F-4588-A667-88DF80E9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734-C496-4F6D-8089-579EB23B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90E-865E-4630-B0FC-BD57A29E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7D48-CB79-4CAE-80CB-1029B7DB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0134-BA9A-4F5D-A341-67EC74BBB12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尋找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Searching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尋找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Searching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尋找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Searching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0:48:26Z</dcterms:created>
  <dc:creator> </dc:creator>
  <dc:description/>
  <dc:language>en-US</dc:language>
  <cp:lastModifiedBy> </cp:lastModifiedBy>
  <dcterms:modified xsi:type="dcterms:W3CDTF">2004-06-16T20:48:53Z</dcterms:modified>
  <cp:revision>1</cp:revision>
  <dc:subject/>
  <dc:title>尋找 (1/3) [Searching]</dc:title>
</cp:coreProperties>
</file>