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868-68FB-4C0F-8B35-AC2AF4A3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57D2-A3FB-48BE-81F9-0CEF829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19C-906E-4B3D-A5FB-90EE3F6D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FA3-640A-42FB-9163-1A54FC4E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124-C63A-4DAF-9192-EDC5E89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C360-5329-4428-B150-448A043F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F24-3C21-4961-AF78-AEAC98E7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8E2-E632-4596-94EB-2FCCD976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E14-6EFB-4CC6-9FF7-98F5DC7C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096D-8A14-43B5-ACC1-3C3A86E2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A76-AB9A-459E-AFFB-E5163E4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FBC3-2A11-4D02-A3D8-FFF72B1E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EB8F-7114-4A60-A67B-44E61CCE12B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起來吧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rise!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30:25Z</dcterms:created>
  <dc:creator> </dc:creator>
  <dc:description/>
  <dc:language>en-US</dc:language>
  <cp:lastModifiedBy> </cp:lastModifiedBy>
  <dcterms:modified xsi:type="dcterms:W3CDTF">2004-06-16T01:31:14Z</dcterms:modified>
  <cp:revision>1</cp:revision>
  <dc:subject/>
  <dc:title>起來吧 (1/3)  [Arise!]</dc:title>
</cp:coreProperties>
</file>