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991-9C2F-4E41-A2D2-B8643CDC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540-C42D-4ED6-8195-B4E02671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887-1A4C-4D98-859F-1280B791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3CF-9388-42F3-8371-7D709617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18E-446B-4826-B14B-8D14556A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2A9-1EEC-4215-B785-357EBFAE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9A3-9A63-4B54-AE44-66E7F2A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29C-D16A-410D-9CBA-0FDCD280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399-4C1F-414F-9CC8-753D18D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D36-48CF-4C14-A61B-B7B97E4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69D-F137-4DE5-BD07-8A9B168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EB7-4031-4B5B-8473-9227D948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895C-1436-4A03-92F1-4A991D00934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是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It’s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是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It’s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49:04Z</dcterms:created>
  <dc:creator> </dc:creator>
  <dc:description/>
  <dc:language>en-US</dc:language>
  <cp:lastModifiedBy> </cp:lastModifiedBy>
  <dcterms:modified xsi:type="dcterms:W3CDTF">2004-06-16T20:49:10Z</dcterms:modified>
  <cp:revision>1</cp:revision>
  <dc:subject/>
  <dc:title>是耶穌 (1/2) [It’s Jesus]</dc:title>
</cp:coreProperties>
</file>