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CECD-F679-402D-B205-EAAE739F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024-8DB0-473E-82D3-F360CC4B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1416-AEC9-4FFD-8442-31031FC7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71C-E9C2-4D6B-B367-FB6A3AB9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139-8098-4487-B00C-EA134EF9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4752-FC8D-49B8-A05C-D36216EF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074-A013-43E5-B167-D79F07D6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94E0-8288-4EA5-8605-F18EDF38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3C5-EF52-4AAE-9C07-1D47FF50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58B-0AE5-44B1-9AE6-55544F60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D94-A714-401F-B62B-0031C8CF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EFC4-CB5B-44F3-8389-B06ED8FD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FE1A-A7F0-4FB2-9426-48CEA3C1489C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陪我走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1/3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Walk With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陪我走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2/3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Walk With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陪我走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3/3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Walk With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1:50:07Z</dcterms:created>
  <dc:creator> </dc:creator>
  <dc:description/>
  <dc:language>en-US</dc:language>
  <cp:lastModifiedBy> </cp:lastModifiedBy>
  <dcterms:modified xsi:type="dcterms:W3CDTF">2004-06-16T21:50:13Z</dcterms:modified>
  <cp:revision>1</cp:revision>
  <dc:subject/>
  <dc:title>陪我走 &lt;1/3&gt; Walk With Me</dc:title>
</cp:coreProperties>
</file>