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369-9A9E-4BB5-8C6B-9DC82749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9E8-4DCB-4FEE-896E-A0816255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CAF-7262-4833-86FE-BEF49D72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A78-8779-4A01-AD95-243D9692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6A9-DC32-4484-906C-5BC42FD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2BE-4427-4C47-AD38-097F9F3B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783-A310-4F1D-B138-BB364B63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2BC-377C-4C29-954C-87EC779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82A-2A9E-426D-8580-B72CB86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DC5-F753-485F-B108-D0C1271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D45-CF46-443F-A232-F74F143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A76-D617-4AFA-875A-7E0AABA6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DB3-E373-4E5D-8F38-5F930FA6C35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          </a:t>
            </a:r>
            <a:r>
              <a:rPr b="0" lang="zh-TW" sz="4400" spc="-1" strike="noStrike">
                <a:solidFill>
                  <a:srgbClr val="000000"/>
                </a:solidFill>
                <a:latin typeface="Gill Sans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4:45Z</dcterms:created>
  <dc:creator> </dc:creator>
  <dc:description/>
  <dc:language>en-US</dc:language>
  <cp:lastModifiedBy> </cp:lastModifiedBy>
  <dcterms:modified xsi:type="dcterms:W3CDTF">2004-06-08T23:14:56Z</dcterms:modified>
  <cp:revision>1</cp:revision>
  <dc:subject/>
  <dc:title>慈愛天父〈1/2 〉 God of Mercy</dc:title>
</cp:coreProperties>
</file>