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DF99-6853-43FE-899E-44BD107D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BAF6-4A7A-44F2-B8B9-D5126705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1020-88BA-454C-B056-C271C90C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527-9377-4F5D-B185-0A624F3A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C97-3AD9-4B4B-8900-FE956A6D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B67-7231-4D82-AF99-D6533DF2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286-07DE-4D88-B976-1878C02F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CA5-88E1-4D15-BF7A-B9611E52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E70-63A6-4ACF-8D73-59070539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32B-B6E6-4A94-8EC2-C39E289A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801-ABBB-4AE0-9764-B9A57663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015-87AA-49BE-847B-B0F8AB39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4186-FB16-4376-9628-B57DC5663EF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耶穌愛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Jesus Loves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耶穌愛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Jesus Loves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59:57Z</dcterms:created>
  <dc:creator> </dc:creator>
  <dc:description/>
  <dc:language>en-US</dc:language>
  <cp:lastModifiedBy> </cp:lastModifiedBy>
  <dcterms:modified xsi:type="dcterms:W3CDTF">2004-06-17T01:00:22Z</dcterms:modified>
  <cp:revision>1</cp:revision>
  <dc:subject/>
  <dc:title>耶穌愛你 &lt;1/2&gt; Jesus Loves You</dc:title>
</cp:coreProperties>
</file>