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AC40-3DDA-4CF2-8FFC-6FBE3769D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2CDD-E2EF-439B-AA84-CF199884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1086-A681-4180-AFAC-65369FFB5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8991-4219-4323-A446-32AFF21D1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1B98-E7AC-4B91-88D7-42CA917D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4767-8F4D-40D5-AC7F-A6DF0347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6636-EFBE-465C-9441-B8C2563F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A848-319A-4313-A0BC-69306C56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0040-E0C1-4B61-9543-A3680DDB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0FEF-6381-46BF-BC7E-47C06CAE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4D24-5F19-4E53-87BB-494B7CAD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D51C-DEE9-4FEB-B101-7B81EA9C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D2FB-7F1B-44F1-A9FD-CFBAB4CE54C7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耶穌愛你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2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Jesus Loves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7440" y="62928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新的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耶穌愛你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2/2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Jesus Loves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7440" y="62928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新的你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00:59:57Z</dcterms:created>
  <dc:creator> </dc:creator>
  <dc:description/>
  <dc:language>en-US</dc:language>
  <cp:lastModifiedBy> </cp:lastModifiedBy>
  <dcterms:modified xsi:type="dcterms:W3CDTF">2004-06-17T01:00:22Z</dcterms:modified>
  <cp:revision>1</cp:revision>
  <dc:subject/>
  <dc:title>耶穌愛你 &lt;1/2&gt; Jesus Loves You</dc:title>
</cp:coreProperties>
</file>