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003-8D8E-433E-A746-57024370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3C3-1029-4FD6-95C1-BEB0616F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9C3-5D84-4CF9-BA9B-0B647824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C2A-C5CE-4611-8816-66D66965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1CB-1F07-477E-92B5-72143439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EEC-B674-4C1A-94B2-8319859D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E2A-DD71-4426-BD77-3E357206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A68-770F-4F6A-8124-10247804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828-93B1-4CCC-AC17-B37521DD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07E-6A91-4AB4-BC05-6896C7A3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E25-AD3B-4D46-A8E7-2395528A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CBD-5DE4-43D9-BB78-80BF9B90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AFD5-F544-4492-BB51-CEB810A126F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6:59Z</dcterms:created>
  <dc:creator> </dc:creator>
  <dc:description/>
  <dc:language>en-US</dc:language>
  <cp:lastModifiedBy> </cp:lastModifiedBy>
  <dcterms:modified xsi:type="dcterms:W3CDTF">2004-06-15T23:37:23Z</dcterms:modified>
  <cp:revision>1</cp:revision>
  <dc:subject/>
  <dc:title>Slide 1</dc:title>
</cp:coreProperties>
</file>