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C2E-1148-4952-93E0-07E63129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F23-BF4D-4C8F-9E04-3FB6CCA6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1B0-AE11-47FA-87AD-312542FD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802-3282-4170-AF8D-EE527C9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805-8AF1-469D-BB7F-06248BFF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959-9249-42AC-BAD0-DEDBF9D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A2E-E7F4-4187-AAD7-8C5504E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059-B9A7-44B2-9439-9169518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84D-8196-492B-A7CE-2223050C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A93-F8DE-41FC-9D10-823DB31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D4B-223A-4225-AEB4-2B7F7243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59C-2D37-4BFD-81CF-C866F34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D10-9D25-440C-95E8-5F5244A269C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45Z</dcterms:created>
  <dc:creator> </dc:creator>
  <dc:description/>
  <dc:language>en-US</dc:language>
  <cp:lastModifiedBy> </cp:lastModifiedBy>
  <dcterms:modified xsi:type="dcterms:W3CDTF">2004-06-17T00:59:50Z</dcterms:modified>
  <cp:revision>1</cp:revision>
  <dc:subject/>
  <dc:title>全新的你 &lt;1/3&gt; A New You</dc:title>
</cp:coreProperties>
</file>