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3E3-4890-48C2-9C5C-1467344C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38D-4E0B-4688-B5F6-6E3B04F2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AC2-D311-4053-87D1-41F1907C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993-51F5-4C8E-AF6B-35709FB7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82C-3147-44C1-A4DA-96D5D5E3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DFC-1B4A-4E32-8057-06DEA8C0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B43-4318-4885-AB83-5F3547B3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329-8AB3-4033-A6D7-BB0631C1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FE3-76E4-4C7C-B6B2-63CBA4B5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FB8-9C90-4E3A-BD4B-7AB043F8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A72-B248-4FEE-A936-D1861FE9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52B-26FC-4F80-8ABF-E8C45A10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4E6F-90CC-444B-A1C5-9BB7AD31ECA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奇妙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mazing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奇妙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mazing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奇妙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mazing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48:22Z</dcterms:created>
  <dc:creator> </dc:creator>
  <dc:description/>
  <dc:language>en-US</dc:language>
  <cp:lastModifiedBy> </cp:lastModifiedBy>
  <dcterms:modified xsi:type="dcterms:W3CDTF">2004-06-16T21:48:32Z</dcterms:modified>
  <cp:revision>1</cp:revision>
  <dc:subject/>
  <dc:title>奇妙的愛 &lt;1/3&gt; Amazing Love</dc:title>
</cp:coreProperties>
</file>