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2B5-5B54-4781-91D1-FD9362A1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9A0-54C8-4065-AE30-F2E94B5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211-C1C7-460F-8E70-BB3AC111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B2F-57F2-4E44-8A0C-C374E965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649-6D28-400B-B733-D70C6B6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658-A4C2-43AA-B3C1-050ED9EE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005-18E4-401F-B94A-BC7454F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023-2182-4990-8B4F-115D023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306-C1C4-4800-A7F5-59B23C9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3AF-DCE5-4AC8-908F-3742E93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D4A-B1A9-4EED-8DCD-BB5BAE6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508-9898-4595-88A4-714B7A0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BAC3-D2CC-4638-8F13-7FDEE5C91D8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1:29Z</dcterms:created>
  <dc:creator> </dc:creator>
  <dc:description/>
  <dc:language>en-US</dc:language>
  <cp:lastModifiedBy> </cp:lastModifiedBy>
  <dcterms:modified xsi:type="dcterms:W3CDTF">2004-06-16T01:31:41Z</dcterms:modified>
  <cp:revision>1</cp:revision>
  <dc:subject/>
  <dc:title>興起發光 (1/3)  [Arise and Shine]</dc:title>
</cp:coreProperties>
</file>