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5EC-5170-445A-8966-818618C1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E9E-E81F-4111-AC37-0AB16374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5E2-4214-4761-B341-D070B984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F81-7FBF-4091-8CAE-52BA8A39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A3F-48CD-4391-AFDD-C1A805D9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61D-7D62-4533-8AF6-04098177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E81-87E1-4E9B-BB17-7DC76B28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B6B-D9B9-4289-8A77-BCD8A9D6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1C3-CA90-4412-8204-4662F69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1DC-372A-4062-9BB5-EC48292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B9D-A733-4023-B2CE-FC831A5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6CF-1933-419F-BA97-C59451B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FDB9-D648-42C5-8BD2-19944C5F26F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秋雨之福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utumn Ble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9:37Z</dcterms:created>
  <dc:creator> </dc:creator>
  <dc:description/>
  <dc:language>en-US</dc:language>
  <cp:lastModifiedBy> </cp:lastModifiedBy>
  <dcterms:modified xsi:type="dcterms:W3CDTF">2004-06-16T21:49:50Z</dcterms:modified>
  <cp:revision>1</cp:revision>
  <dc:subject/>
  <dc:title>秋雨之福 &lt;1/4&gt; Autumn Blessings</dc:title>
</cp:coreProperties>
</file>