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5A7-C94E-4A97-BE09-8F144714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E9C-3CB3-4CD2-8E88-8FE86A0D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2B2-58A4-470E-89F4-0FA97ABF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E5F-C837-4172-B3DA-29B49B5B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DF0-7DF4-417F-AE8E-5C2CAC04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FA9-9D16-43DC-8E6A-81F1ED57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B3E-D257-4D89-ADAA-31F81991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42F-236D-4029-AC82-6DE5419D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436-94B0-43AD-98A7-FC38D395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55F-45AB-42B2-B08A-EE277631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522-14A2-4964-8920-1C078CB2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F62-ACFE-4BF6-A272-41E8017D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BBB5-55BA-4770-AF07-63AF4DCFC9C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8:33Z</dcterms:created>
  <dc:creator> </dc:creator>
  <dc:description/>
  <dc:language>en-US</dc:language>
  <cp:lastModifiedBy> </cp:lastModifiedBy>
  <dcterms:modified xsi:type="dcterms:W3CDTF">2004-06-15T23:38:37Z</dcterms:modified>
  <cp:revision>1</cp:revision>
  <dc:subject/>
  <dc:title>Slide 1</dc:title>
</cp:coreProperties>
</file>