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379-D3E5-4510-9301-A432BD2B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864D-14AC-438B-94F7-75C9A978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0F4-E822-4493-9BF2-0F9336D2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8679-E629-4EC0-A276-C038AE42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51D-65BC-4CD7-9B1E-E4B727E9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B6B6-FFD1-4CE4-81CB-20A4A832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271-4F06-44D7-903C-1EC076B9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3AA-FD94-4814-9284-7B1C86F6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87C-1ED4-4D9E-BFC3-0FFFE37F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C87-AFA5-44E9-9583-CAC448A3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D814-3378-4688-A486-ECD93004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558-4905-42B1-9BD7-62C5AD85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1FDA-078F-4568-B101-C341D2AD0CAE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羔羊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2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〉   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Glorious 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羔羊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2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〉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Glorious 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23:14:22Z</dcterms:created>
  <dc:creator> </dc:creator>
  <dc:description/>
  <dc:language>en-US</dc:language>
  <cp:lastModifiedBy> </cp:lastModifiedBy>
  <dcterms:modified xsi:type="dcterms:W3CDTF">2004-06-08T23:14:37Z</dcterms:modified>
  <cp:revision>1</cp:revision>
  <dc:subject/>
  <dc:title>榮耀羔羊〈1/2 〉    Glorious King </dc:title>
</cp:coreProperties>
</file>