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C00-DAEC-4551-8824-F6B0DA03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593-EBA8-4754-A32C-323297D3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57F-A79C-4548-A4A5-6E315A9F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40B-14B4-43C2-AFBB-AE604E46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C35-817E-4223-9E69-96DAE9D6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C2B-472B-4682-81DD-E17A350F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F9D-ABB8-4E33-9B48-D13D3463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D26-7372-44A4-A414-D91C6E61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74F-737E-49C8-BB59-BCEF117F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697-A2D7-4137-9EA1-0075F354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4FC-18DE-4EC8-88AC-69E4DBF3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1F3-A6D8-4DA2-8148-19C0DCBE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E665-879A-43E9-88BF-00FD18BBDC7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賜我自由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Grant Me Freedom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賜我自由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Grant Me Freedom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50:38Z</dcterms:created>
  <dc:creator> </dc:creator>
  <dc:description/>
  <dc:language>en-US</dc:language>
  <cp:lastModifiedBy> </cp:lastModifiedBy>
  <dcterms:modified xsi:type="dcterms:W3CDTF">2004-06-16T20:50:49Z</dcterms:modified>
  <cp:revision>1</cp:revision>
  <dc:subject/>
  <dc:title>賜我自由 (1/2) [Grant Me Freedom]</dc:title>
</cp:coreProperties>
</file>