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36C-CF4D-4E69-85E8-D372DC6F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57C-68A0-4815-81C0-370E7729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944-A79C-41F5-9E6A-20008E884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2C9-2696-40B8-A50A-6FAF71DB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0B7-19CD-49A4-811A-291D5A29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64F-2E59-4048-8064-6CA097D9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64CE-46B1-4569-875D-3D9292A0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5FC8-7A6A-4F8A-B410-474CBC4B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D1A0-B63C-4AA4-8D86-5E3FC595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E081-7E9A-4DC8-9304-F488AC7C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29A-C167-4796-A22E-265A0B1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766-E4FA-4E63-93A6-0ED57331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CD19-5D6C-4890-844F-CE4BC19C7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在主愛中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God’s Lo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4200" y="6248520"/>
            <a:ext cx="89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全真粗黑體"/>
                <a:ea typeface="全真粗黑體"/>
              </a:rPr>
              <a:t>讓愛走動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9:22:45Z</dcterms:created>
  <dc:creator>Registered user</dc:creator>
  <dc:description/>
  <dc:language>en-US</dc:language>
  <cp:lastModifiedBy>Registered user</cp:lastModifiedBy>
  <dcterms:modified xsi:type="dcterms:W3CDTF">2004-07-09T19:22:50Z</dcterms:modified>
  <cp:revision>1</cp:revision>
  <dc:subject/>
  <dc:title>在主愛中 &lt;1/4&gt; In God’s Love</dc:title>
</cp:coreProperties>
</file>