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8E66-90F7-49FB-9336-E5AAD5F42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A516-BEDD-45C2-AE29-A95C12A92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3234D-04F7-4042-8F47-AB6EBAC1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74CD-EB0A-4D8D-B29F-F949F550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ABCE-0DEB-4FB7-90DE-AB1CA071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9A2F4-1634-42F4-9551-647BAFE1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BB79-0FFA-4986-83C2-1900B2DF7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612D-4FD3-44E3-AE7D-3BDABCDCF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3E4E1-8996-498C-993C-1F56BD3D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A55D-CB87-461E-BF15-5ED33201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A81A-2175-4906-B8EF-CE9B848C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6C48E-D08F-46B0-9FF2-E0BD6666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332A7-7378-4A97-936C-5766B74BCE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01:51:20Z</dcterms:created>
  <dc:creator>SOP</dc:creator>
  <dc:description/>
  <dc:language>en-US</dc:language>
  <cp:lastModifiedBy>SOP</cp:lastModifiedBy>
  <dcterms:modified xsi:type="dcterms:W3CDTF">2004-02-10T01:51:29Z</dcterms:modified>
  <cp:revision>1</cp:revision>
  <dc:subject/>
  <dc:title>Slide 1</dc:title>
</cp:coreProperties>
</file>