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DBC-8A4E-4CFA-9CAA-24A25AD7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076-B66E-4EE5-BCF1-33EBB5D6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184-0542-430A-9D6B-6361B07D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953-A0DA-40F8-863E-425C622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1D2-9B58-4763-8ACF-43A94CC8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5B4-F26C-48CE-967A-DA9DCC60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56A-000A-4ADD-91FD-F3E8401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946-BFFF-4F1F-B779-2594368A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FDF-CC20-4E8F-B062-9A964179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C90-35DB-4EBF-BB7C-DF37034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C21-5ED9-471F-B95B-7AD82B4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206-2DA1-47F3-A0DD-94AE9C6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CDE6-CFFD-4B49-BB2C-01EA69C94CD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2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3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5:27Z</dcterms:created>
  <dc:creator> </dc:creator>
  <dc:description/>
  <dc:language>en-US</dc:language>
  <cp:lastModifiedBy> </cp:lastModifiedBy>
  <dcterms:modified xsi:type="dcterms:W3CDTF">2004-06-08T23:15:41Z</dcterms:modified>
  <cp:revision>1</cp:revision>
  <dc:subject/>
  <dc:title>進入豐盛〈1/3 〉 Into His Abundance </dc:title>
</cp:coreProperties>
</file>