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066-1DB7-4932-8FD8-4F981CAD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D8E-E540-474B-AC52-6683D203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A50-C9BC-4253-9ED0-1591FE99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EAB-0AC4-44C3-AF9F-08720C3E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9E3-4DB0-4FD6-9AB9-D66B8B59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3BEF-8EBB-4D62-BB73-089BD34B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890-C08E-4F48-B272-A719CC08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71E-9C8E-4719-858B-2EC1BBAA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482-713B-49F8-899F-77D9CD46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2300-2105-4669-9122-7C6768E6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03E-C479-4511-B41D-28EC5F3D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2E60-FABF-4F4A-BCA6-B50E9B1A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0829-DDA2-4A17-B721-CFF39D6B103C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彼此相愛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Love One An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彼此相愛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Love One An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彼此相愛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Love One An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彼此相愛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Love One An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1:00:29Z</dcterms:created>
  <dc:creator> </dc:creator>
  <dc:description/>
  <dc:language>en-US</dc:language>
  <cp:lastModifiedBy> </cp:lastModifiedBy>
  <dcterms:modified xsi:type="dcterms:W3CDTF">2004-06-17T01:00:34Z</dcterms:modified>
  <cp:revision>1</cp:revision>
  <dc:subject/>
  <dc:title>彼此相愛 &lt;1/4&gt; Love One Another</dc:title>
</cp:coreProperties>
</file>