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F914-3F4A-4A12-9DA2-1919B1236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E03D-739A-48B5-9C37-A21BDCCAF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CD78-3A60-441A-9594-4397A7AE6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04F1-0184-4F4C-9CE8-18BF5A6EB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7D3E-20F1-4858-B52F-AA6C6F07D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E37E-212B-40D4-8296-6BF7A0267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8B0F-070B-4D85-9615-EEAC007C2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2E43-DC6E-4807-9A7F-CC329FDD6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D243-3AD9-42D9-9854-267884C6E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4901-21F9-410A-A4AE-A307F045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45DC-560B-4944-B15A-F0CABABC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3A4D-0875-4086-8C74-6E5FEB16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CDBBA-5B14-4EFE-B8EF-8ADFAD7FAE62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讓愛走動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&lt;1/2&gt;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Love Overflo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74200" y="6248520"/>
            <a:ext cx="89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全真粗黑體"/>
                <a:ea typeface="全真粗黑體"/>
              </a:rPr>
              <a:t>讓愛走動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讓愛走動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&lt;2/2&gt;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Love Overflo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74200" y="6248520"/>
            <a:ext cx="89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全真粗黑體"/>
                <a:ea typeface="全真粗黑體"/>
              </a:rPr>
              <a:t>讓愛走動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21:47:35Z</dcterms:created>
  <dc:creator> </dc:creator>
  <dc:description/>
  <dc:language>en-US</dc:language>
  <cp:lastModifiedBy> </cp:lastModifiedBy>
  <dcterms:modified xsi:type="dcterms:W3CDTF">2004-06-16T21:47:46Z</dcterms:modified>
  <cp:revision>1</cp:revision>
  <dc:subject/>
  <dc:title>讓愛走動 &lt;1/2&gt; Love Overflows</dc:title>
</cp:coreProperties>
</file>