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330-637A-4C82-ABDB-6F50E6E8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F71-53F2-43BC-8250-84EA42F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FC3-E08F-4CF1-B2DC-8ABBE014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57F-D37F-4B4C-9379-CA8E8658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4D6-DAB2-4BEC-A645-40EB2E48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F51-88BC-40D9-8972-898A15A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65C-BB35-451C-A392-04A9D8C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17-15D4-4B18-990A-D9E67EEF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D90-F462-4390-B203-29AA7E8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0A5-F20B-4B5E-A655-1CBC75C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238-F4FC-42A8-9986-E06543A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885-00C8-4FE5-AF6D-D4B7A18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37F-66FD-447B-B3DD-CD44845D28E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09Z</dcterms:created>
  <dc:creator> </dc:creator>
  <dc:description/>
  <dc:language>en-US</dc:language>
  <cp:lastModifiedBy> </cp:lastModifiedBy>
  <dcterms:modified xsi:type="dcterms:W3CDTF">2004-06-16T23:26:40Z</dcterms:modified>
  <cp:revision>1</cp:revision>
  <dc:subject/>
  <dc:title>復興聖潔 &lt;1/4&gt; Revive Holiness</dc:title>
</cp:coreProperties>
</file>