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0264-74CB-4AD2-9DA8-52E7BE419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35F6-3548-4E32-8E49-75F64DF9B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3CF9-9D8D-412B-BC7C-DB4F7D8C5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CA0E-21FD-4E37-851D-8C333AD02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D4F2-4792-4926-BF8B-0F666845C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5FE4-2BF5-46F0-BCAD-F35C91127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4D82-EE07-4BEA-9CCC-3A2F7E2B0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6EC5-1D3D-456B-A84E-A97CB6193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62B4-6738-4818-96DD-BBAD666B3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6CF2-7366-4F19-9CAB-3DD5B14FD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92C7-593B-4073-B6FB-8E92A680A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C95C-18CC-44AC-9D3F-7D4513587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CBC09-4A88-4103-9679-06EAB9B787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0T01:52:15Z</dcterms:created>
  <dc:creator>SOP</dc:creator>
  <dc:description/>
  <dc:language>en-US</dc:language>
  <cp:lastModifiedBy>SOP</cp:lastModifiedBy>
  <dcterms:modified xsi:type="dcterms:W3CDTF">2004-02-10T01:52:30Z</dcterms:modified>
  <cp:revision>1</cp:revision>
  <dc:subject/>
  <dc:title>Slide 1</dc:title>
</cp:coreProperties>
</file>