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0A9-BC41-45D7-86F1-3C766FD3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20C-832B-4D12-89EB-57E0FC2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A34-F7E5-44AF-9C1C-21F23510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0A7-5808-421F-A0FC-1F77AB06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3A1-D98E-41CE-9522-3FF0CCC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969-41AA-4533-9C40-9B421DE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2DD-CC7E-4D16-9679-C31BB13A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637-33AF-4F10-8446-CA75D5D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94E-F387-494F-9A41-4C526C3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F03-0D9B-4CF2-8B28-89B5BE6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031-76D7-4851-A918-EEBEA29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E64-DE7C-4B88-9253-4BB6774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7D3-68CE-441C-B07C-574E1774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2:15Z</dcterms:created>
  <dc:creator>SOP</dc:creator>
  <dc:description/>
  <dc:language>en-US</dc:language>
  <cp:lastModifiedBy>SOP</cp:lastModifiedBy>
  <dcterms:modified xsi:type="dcterms:W3CDTF">2004-02-10T01:52:30Z</dcterms:modified>
  <cp:revision>1</cp:revision>
  <dc:subject/>
  <dc:title>Slide 1</dc:title>
</cp:coreProperties>
</file>