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AEC1-704E-4748-92AC-9FA45C2A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D10B-E00B-4267-BA63-6B15D11D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32FC-0617-4CB4-858D-7E9B0EB8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ADC2-3600-457F-950E-1FA337299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4688-65FB-4842-BCC8-7D88AF57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586D-2D57-45E8-AB16-B7AA2A98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2429-B011-4F20-BB0C-D205EF97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A9F8-2DF0-4B8E-88ED-1371567D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C03B-B06C-457C-85A3-ECFCB766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D199-3A4B-442D-9EC8-87853C86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5938-17A0-4182-8887-0389094F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A331-856D-4F48-AE97-493C10B3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8F20-9B49-4D4C-821C-32339DDF4D1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犧牲的愛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The Sacrificial Lov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292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耶和華祝福滿滿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犧牲的愛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The Sacrificial Lov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6292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耶和華祝福滿滿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犧牲的愛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3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The Sacrificial Lov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6292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耶和華祝福滿滿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1:04:24Z</dcterms:created>
  <dc:creator> </dc:creator>
  <dc:description/>
  <dc:language>en-US</dc:language>
  <cp:lastModifiedBy> </cp:lastModifiedBy>
  <dcterms:modified xsi:type="dcterms:W3CDTF">2004-06-16T01:04:32Z</dcterms:modified>
  <cp:revision>1</cp:revision>
  <dc:subject/>
  <dc:title>犧牲的愛 (1/3)  [The Sacrificial Love]</dc:title>
</cp:coreProperties>
</file>