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D0E-14A5-422B-A83D-34B50D6A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E1CA-0009-4F05-BEB2-5B9794E8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B93E-29EB-43AF-9B6C-FEAA6375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EFB5-47ED-4C51-8FAF-D013D7F6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9F9-9513-4A92-9FD9-4A863E83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F6A-6A2E-4BA1-87A1-71ADB3E0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2BC-34BD-4A8D-A130-8B931073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EF8-8B18-4C6D-BCD8-F197A682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5923-5333-432F-872F-D1004DD7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5D8-BAE8-4F91-B2D6-698D4A03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F3B-AC8B-4E6F-BE2E-B376140E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3AD1-52F9-481A-9F62-ACCA5EDF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141D-9CC5-4C0E-BF05-94BF2D56C3A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23:39:30Z</dcterms:created>
  <dc:creator> </dc:creator>
  <dc:description/>
  <dc:language>en-US</dc:language>
  <cp:lastModifiedBy> </cp:lastModifiedBy>
  <dcterms:modified xsi:type="dcterms:W3CDTF">2004-06-15T23:39:39Z</dcterms:modified>
  <cp:revision>1</cp:revision>
  <dc:subject/>
  <dc:title>Slide 1</dc:title>
</cp:coreProperties>
</file>