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957-B987-4E55-AE1D-C9BD7C02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301-2BCF-476B-ABE0-DB3A2DB9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ACB-3292-47BC-8167-BCF59100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8BB-3D46-4CB7-956D-14EA6069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91D-451E-4A62-BEFD-548485BC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72B-1C3A-4C3A-A1F1-011C5A4A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B50-1E56-4587-BA2E-389E4E25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C02-58ED-42AE-8CD9-9CD4049B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5B0-E68F-4683-824B-BDF8F190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448-6628-40C0-BE9E-9AF5FAD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5F2-AC4F-44D5-8A04-2EDBEC2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A33-FF7A-4B51-BC23-6EA9B4FD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CE99-2056-4AD1-9F27-93BB7693311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馨香晚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Evening Sacrific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馨香晚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Evening Sacrific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馨香晚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Evening Sacrific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07:06Z</dcterms:created>
  <dc:creator> </dc:creator>
  <dc:description/>
  <dc:language>en-US</dc:language>
  <cp:lastModifiedBy> </cp:lastModifiedBy>
  <dcterms:modified xsi:type="dcterms:W3CDTF">2004-06-16T21:07:20Z</dcterms:modified>
  <cp:revision>1</cp:revision>
  <dc:subject/>
  <dc:title>馨香晚祭 (1/3) [The Evening Sacrifice]</dc:title>
</cp:coreProperties>
</file>