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266-A461-4E56-9CD6-E710B8CA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54A-2F23-4AC4-93E9-D85A78D0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5FE-73B6-4D10-9397-F16AB0EB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213-38B4-48AC-9522-EF00024B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B4A-DEF4-4BCF-B502-0BFB11E0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C0E-A494-4682-8CE3-1C43735B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BF9-82FA-4E38-95D3-6CC9BE8A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1F2-E8E1-41F9-BEE2-4045EC76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C4A-895C-4C25-BA4D-B69A81CF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D04-62CB-4F28-AD80-5CF3E9D4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F47-E842-4354-A5E8-9F9758EF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1A3-5218-49E0-B722-2548412C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D221-BCA0-406F-AD6C-37606FBA588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與你有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Promis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與你有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Promis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與你有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Promis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50:03Z</dcterms:created>
  <dc:creator> </dc:creator>
  <dc:description/>
  <dc:language>en-US</dc:language>
  <cp:lastModifiedBy> </cp:lastModifiedBy>
  <dcterms:modified xsi:type="dcterms:W3CDTF">2004-06-16T20:50:27Z</dcterms:modified>
  <cp:revision>1</cp:revision>
  <dc:subject/>
  <dc:title>與你有約 (1/3) [The Promise]</dc:title>
</cp:coreProperties>
</file>