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105-0082-4A65-AADC-F3B60633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5A0-6A5C-41E1-A5B5-CF3890EE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FE0-44D5-4CEA-9242-8F6F3606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CB1-85B0-435F-9D96-FA841633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155-AC67-4BE4-A487-B8C3A006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79E-C9C0-4CC3-A87B-4335AAB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8ED-B8F0-4F4E-B21D-AB683DE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08C-73BB-4D41-90A6-0C06C5AE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58A-6CB0-4EFD-8FE7-DB045201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614-98D6-4AFF-9980-FAC9DED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ECE-BE08-4744-A5A6-CA27D7B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93B-9435-4130-9D95-4C9F39A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A43-19CD-42AA-BAFE-7DC85C12795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52:19Z</dcterms:created>
  <dc:creator> </dc:creator>
  <dc:description/>
  <dc:language>en-US</dc:language>
  <cp:lastModifiedBy> </cp:lastModifiedBy>
  <dcterms:modified xsi:type="dcterms:W3CDTF">2004-06-16T21:52:33Z</dcterms:modified>
  <cp:revision>1</cp:revision>
  <dc:subject/>
  <dc:title>仰望恩典 &lt;1/4&gt; Upon Your Grace</dc:title>
</cp:coreProperties>
</file>