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26B-6DDD-420C-9763-779A559F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742-01DD-4274-80FD-717879A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EE7-93E3-4693-9D1F-C1AA3A5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FC5-A992-405C-8ED0-F2097F93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5E5-B99F-4E05-9D24-0CD2CF2C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986-4410-4426-9786-9902550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651-A62D-4A37-9C19-A975D37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EA3-D844-41E0-A33D-6B5D82D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07E-9443-4090-BAB0-31C7ED03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D14-4A6A-409B-9E39-D3D3C49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EB2-2CB7-4C12-8965-4B1B9E7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975-0747-449C-896C-BE0A0C3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590-52A6-4387-A254-7AB82E9D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23:55:51Z</dcterms:created>
  <dc:creator>SOP</dc:creator>
  <dc:description/>
  <dc:language>en-US</dc:language>
  <cp:lastModifiedBy>SOP</cp:lastModifiedBy>
  <dcterms:modified xsi:type="dcterms:W3CDTF">2004-03-31T23:56:02Z</dcterms:modified>
  <cp:revision>1</cp:revision>
  <dc:subject/>
  <dc:title>Slide 1</dc:title>
</cp:coreProperties>
</file>