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4F63-2DAB-4685-AC45-D199886D0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4325-A71D-4731-9D47-F7FED0F95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F6B6-13E0-49D8-B2DF-C1AA18EE4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AFE2-E7F7-48AD-86D3-02BCC9729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BBC5-9E83-4371-AF1E-B5CCAC282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9784-7226-4683-9C1E-0C0DD0487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9D61-0317-4B6E-8F50-35F2F0235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B955-6E8E-4C38-BD65-A27E680C8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EAC0-C251-48E6-AAFF-712320ACC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6ABA-8855-403C-A0B9-2F5CF364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ADC5-9C3A-4AB7-952C-D2BCB823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D871-5003-4789-96F0-B577FAC3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1A276-9F34-4C37-81A3-E19FF42E689F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豐盛的人生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(1/2) 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[Abundant Life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928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甦醒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豐盛的人生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(1/2)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[Abundant Life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62928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甦醒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1:32:27Z</dcterms:created>
  <dc:creator> </dc:creator>
  <dc:description/>
  <dc:language>en-US</dc:language>
  <cp:lastModifiedBy> </cp:lastModifiedBy>
  <dcterms:modified xsi:type="dcterms:W3CDTF">2004-06-16T01:32:35Z</dcterms:modified>
  <cp:revision>1</cp:revision>
  <dc:subject/>
  <dc:title>豐盛的人生 (1/2)  [Abundant Life]</dc:title>
</cp:coreProperties>
</file>