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1E2-64A7-4A70-95C6-624413E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057-9C7A-4F9C-A0B2-8512B6BC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3C0-8831-47BB-8681-96B0BC09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4ED-6F96-4100-B116-3301A123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15C-ACEF-4EB2-8F12-AE0311DE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5BE8-35D3-400C-BD95-3B4E701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A049-D21C-465D-BEC9-0AC135C5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812-AA67-4469-90F2-69D21E8B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0566-5B3E-45E8-86A4-EF621BE8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8FDE-90A4-4AB9-91FC-9FE1CC7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592-41DE-4E02-BF85-2FD5BEF0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3195-37FF-47F0-804B-597C218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047F-F306-4126-8F00-51ED978DA56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豐盛的人生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2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bundant Lif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2:27Z</dcterms:created>
  <dc:creator> </dc:creator>
  <dc:description/>
  <dc:language>en-US</dc:language>
  <cp:lastModifiedBy> </cp:lastModifiedBy>
  <dcterms:modified xsi:type="dcterms:W3CDTF">2004-06-16T01:32:35Z</dcterms:modified>
  <cp:revision>1</cp:revision>
  <dc:subject/>
  <dc:title>豐盛的人生 (1/2)  [Abundant Life]</dc:title>
</cp:coreProperties>
</file>