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BFD-03C8-4442-A171-B9EC3D4D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576-5B28-41B5-AC05-0D62EC40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B89-68D5-4736-BC80-E100EBB3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D50-B799-4EA7-8AB1-53D1E4ED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CC5-CE95-439A-B2C2-7F98FFB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066-3575-4E49-B4EC-D973E621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A8E-03C5-4E65-85DC-B4D900D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344-393E-46DC-A270-FE1D819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2B9-4ADA-46D1-9B3D-328D1A12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4D9-B600-4539-BD7F-DB9CEF1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430-6F8F-41B1-8055-084CA56D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2F0-ED8B-4970-8481-CF3F5051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4D22-1F62-4F0C-BDF9-219669DDA42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親愛的聖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Come Holy Spi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親愛的聖靈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ome Holy 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9:58Z</dcterms:created>
  <dc:creator> </dc:creator>
  <dc:description/>
  <dc:language>en-US</dc:language>
  <cp:lastModifiedBy> </cp:lastModifiedBy>
  <dcterms:modified xsi:type="dcterms:W3CDTF">2004-06-08T23:20:07Z</dcterms:modified>
  <cp:revision>1</cp:revision>
  <dc:subject/>
  <dc:title>親愛的聖靈〈1/2 〉 Come Holy Spirit</dc:title>
</cp:coreProperties>
</file>