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D79-CA86-4CF9-9765-F75EF684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8F7-87E9-4946-88BC-B7F02F1B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2CB-F9F9-4CEB-B95F-8C767E4C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6F7-9618-42D4-A148-7811697E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1BF-DF47-4819-8CF5-00C7B807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058-099B-4B37-B4A2-103D21AA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E59-F203-405B-9668-380BB07B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CCA-D463-4D37-BA7F-1116BF6C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E86-E2BC-4A99-84CA-2ABEDE28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9C2-841E-43AD-941E-76A4F35B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B38-7C1C-4C11-BCF7-5FF72008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B2E-C436-4FAC-ACBB-AB3A046D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6178-3121-40D8-967C-A1FAE8CF706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天父的孩子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Father’s Beloved Chil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天父的孩子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Father’s Beloved Chil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07:31Z</dcterms:created>
  <dc:creator> </dc:creator>
  <dc:description/>
  <dc:language>en-US</dc:language>
  <cp:lastModifiedBy> </cp:lastModifiedBy>
  <dcterms:modified xsi:type="dcterms:W3CDTF">2004-06-16T21:07:38Z</dcterms:modified>
  <cp:revision>1</cp:revision>
  <dc:subject/>
  <dc:title>天父的孩子 (1/2) [Father’s Beloved Child]</dc:title>
</cp:coreProperties>
</file>