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124-35F2-4801-9829-B8130BB3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768-04DB-4F17-A81E-16F399BB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88AA-B8F6-4EE2-80DD-49F91140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86A-5567-49C1-B2DC-BB52C81E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BD0-2AAD-43F8-86A8-C33D12D4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CE9-1B38-4E1C-9FA9-1FD16EB9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5AC-DD33-4295-84A7-A90459CF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AB29-7D06-466D-8F51-95E1A9FD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468-24B0-4328-8649-6DF2A66E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EB4-2CB0-4191-B991-672312E7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902-7F66-4D4E-89AB-D3F0EA70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44D-4BCB-4E9D-B771-2E0C9D6C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6D18-1277-49BE-B146-41DB2D92BFF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8:49Z</dcterms:created>
  <dc:creator> </dc:creator>
  <dc:description/>
  <dc:language>en-US</dc:language>
  <cp:lastModifiedBy> </cp:lastModifiedBy>
  <dcterms:modified xsi:type="dcterms:W3CDTF">2004-06-15T23:39:03Z</dcterms:modified>
  <cp:revision>1</cp:revision>
  <dc:subject/>
  <dc:title>Slide 1</dc:title>
</cp:coreProperties>
</file>