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EA2-85D0-4465-A2E2-74446ACD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90B-05EB-4A2A-B113-F45397E1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058-7D5C-4D8C-BE1E-D5078EAF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6DB-3F6A-4773-B029-0EF8924B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103-2FA7-4E9B-AAC2-5E8EC04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036-590B-4ABE-BD48-DCFD80A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2B9-330B-44DA-8F9A-1C62080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DB3-2C2B-401D-A00B-81300DE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6FB-A14B-4799-8153-B3878912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2EF-7467-4240-B5A5-598EB27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100-556C-4C9B-B5A9-B769C9C0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86D-BCED-44B4-B90D-E585B42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3262-9DD5-4424-894F-E050CA0CA49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28Z</dcterms:created>
  <dc:creator> </dc:creator>
  <dc:description/>
  <dc:language>en-US</dc:language>
  <cp:lastModifiedBy> </cp:lastModifiedBy>
  <dcterms:modified xsi:type="dcterms:W3CDTF">2004-06-16T23:27:43Z</dcterms:modified>
  <cp:revision>1</cp:revision>
  <dc:subject/>
  <dc:title>耶穌，我的耶穌 &lt;1/2&gt; Jesus, My Jesus</dc:title>
</cp:coreProperties>
</file>