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3DA-8C5C-442B-A91D-3FE1DBC3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982-E7BB-446A-B442-4C4F705E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0BAA-D389-4931-8E4D-7D7ED6AF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355-F2F7-4ABC-AD51-C123F404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FE5-B11D-4C13-8119-CA3E8E37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F8A-A6E8-4125-B331-99595A49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BF9-2CAA-4711-878C-C020842A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0DC0-D345-44EB-8025-9C25F0E9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D6F3-CB0F-42EB-9A50-DCAFCE2E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5E4-08F3-43EA-85BB-E0D0B598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FCA-C80E-4A78-94CD-4D62D08E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64B-7E73-4ED3-BA76-8E3E3AEB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43B6-3F12-4BD6-9747-C88265D502A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23:38:02Z</dcterms:created>
  <dc:creator> </dc:creator>
  <dc:description/>
  <dc:language>en-US</dc:language>
  <cp:lastModifiedBy> </cp:lastModifiedBy>
  <dcterms:modified xsi:type="dcterms:W3CDTF">2004-06-15T23:38:20Z</dcterms:modified>
  <cp:revision>1</cp:revision>
  <dc:subject/>
  <dc:title>Slide 1</dc:title>
</cp:coreProperties>
</file>