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BD3-051C-4D5A-8C81-9D1B5B90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E79-E6E6-4BB0-B505-EA049201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22E-933A-412F-B196-697CB881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DEB-92C2-45A8-8680-FE20D89A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9C1-85D8-4825-B1C7-5D644A4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902-9FE5-4BA8-BDB0-B2B93E7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194-84CC-41F8-BC60-2747FEFA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54F-6D0E-4CC6-B61D-541DCE0A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236-677B-401D-9F4B-CA76D6F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64D-09DC-4F65-827D-0E13832F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049-3F54-40C3-8EBE-014CA3F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517-100D-4D5F-BB45-AB37BD3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25F-B2DA-42AE-A432-0516B4CB2D1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1:24Z</dcterms:created>
  <dc:creator> </dc:creator>
  <dc:description/>
  <dc:language>en-US</dc:language>
  <cp:lastModifiedBy> </cp:lastModifiedBy>
  <dcterms:modified xsi:type="dcterms:W3CDTF">2004-06-17T00:21:47Z</dcterms:modified>
  <cp:revision>1</cp:revision>
  <dc:subject/>
  <dc:title>永活全能真神 &lt;1/3&gt; Almighty Living God</dc:title>
</cp:coreProperties>
</file>