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288-B2AE-41FA-8E9E-D9C28DA0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74D-4CBA-4B38-AC79-18204825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D56-6D41-489A-BF60-E0556744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DFE-0AD5-41AD-9FE5-79993DAB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8CC-5A3E-48AD-9DF7-2643ECA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5BF-B429-433F-A652-7BF033EC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0EE-7F59-455B-A5D8-8E885CC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715-DD5E-4CDF-84D6-61D4E040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E28-9D57-4CA4-8FB8-1C2D917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457-16B5-46B5-8A58-2FFB7017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562-7C27-4228-BDF6-8DEF37B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28A-D6DC-436E-8857-02D6653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D0F1-77B1-4076-91A5-FA468B372A6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5:11Z</dcterms:created>
  <dc:creator> </dc:creator>
  <dc:description/>
  <dc:language>en-US</dc:language>
  <cp:lastModifiedBy> </cp:lastModifiedBy>
  <dcterms:modified xsi:type="dcterms:W3CDTF">2004-06-17T00:25:26Z</dcterms:modified>
  <cp:revision>1</cp:revision>
  <dc:subject/>
  <dc:title>專心仰望耶穌 &lt;1/4&gt; Focus on Jesus</dc:title>
</cp:coreProperties>
</file>