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5EA-2C38-4A56-8A5B-9911BD08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86D-5E4C-4C50-B396-CBCA9D3E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5E3-5020-43DB-915B-54683134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BE1-4856-4A00-9FC6-BCA91EE2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C4C-D624-4B5E-BEE4-4D8CFE21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09C0-7EC0-4A86-BE77-73F5DBE3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3E8-3152-4C62-8126-C96D1E5C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720-4816-4736-B163-26AE26B2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572-8ECC-4AA3-AB55-7014A7AA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F68-54E8-43AD-8FCF-9F74840A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636-7653-4601-99BC-620ECB67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9FE6-D0EE-47A8-8B10-AD477AC6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4DB4-07B1-4A42-9354-A94997F6E37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萬國禱告的殿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use of Pr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萬國禱告的殿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use of Pr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萬國禱告的殿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use of Pr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萬國禱告的殿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use of Pr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3:27:50Z</dcterms:created>
  <dc:creator> </dc:creator>
  <dc:description/>
  <dc:language>en-US</dc:language>
  <cp:lastModifiedBy> </cp:lastModifiedBy>
  <dcterms:modified xsi:type="dcterms:W3CDTF">2004-06-16T23:28:00Z</dcterms:modified>
  <cp:revision>1</cp:revision>
  <dc:subject/>
  <dc:title>萬國禱告的殿 &lt;1/4&gt; House of Prayer</dc:title>
</cp:coreProperties>
</file>