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0D3-AC9D-4003-92D4-676F323C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5F3-83AB-4F97-8E36-2D2B87B2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C48-F6A5-4D43-B5CD-412C958E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0A1-9671-444D-A47A-183122C8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8DF-3A33-4751-B985-21DEA9B7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7AF-07ED-4798-9DF9-DF940362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D96-861E-4FF8-8C51-C203D72F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A61-EC70-43A6-8BE7-9FA1C4FF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233-1BCF-4D90-90A7-4EE349AF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580-CB72-4852-A6BA-E450145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0DF-AEB5-48CE-8839-3227749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CDF-97D6-491F-BEBF-3009EF58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5F28-09AA-4A45-9F47-479405BA714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1:01:58Z</dcterms:created>
  <dc:creator> </dc:creator>
  <dc:description/>
  <dc:language>en-US</dc:language>
  <cp:lastModifiedBy> </cp:lastModifiedBy>
  <dcterms:modified xsi:type="dcterms:W3CDTF">2004-06-17T01:02:04Z</dcterms:modified>
  <cp:revision>1</cp:revision>
  <dc:subject/>
  <dc:title>進入你的同在 &lt;1/4&gt; Into Your Presence</dc:title>
</cp:coreProperties>
</file>