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602-B22F-4BAF-8F84-E43CB580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C31-3F12-410B-B1F0-58116014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19E-5CB8-4505-9D2A-245906DA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B97-5893-4B38-9386-B0D8F624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631-4990-4080-88BC-3964D8E7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710-2D54-499A-9E78-29BC0BA6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1CA-9A0B-461C-855B-CCD0744F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A72-8974-4AB7-BF8F-67372EB6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135-B4BD-48E0-B25F-5A30A42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327-F7FE-4E3F-8340-630CDE78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AF0-61D4-4ECD-9438-177F893B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641-F211-4680-8289-D48FC52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9E99-6565-4590-9118-FB4FAFE3147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5:36Z</dcterms:created>
  <dc:creator> </dc:creator>
  <dc:description/>
  <dc:language>en-US</dc:language>
  <cp:lastModifiedBy> </cp:lastModifiedBy>
  <dcterms:modified xsi:type="dcterms:W3CDTF">2004-06-16T01:05:43Z</dcterms:modified>
  <cp:revision>1</cp:revision>
  <dc:subject/>
  <dc:title>主賜福如春雨 (1/3) [Rain of Blessings]</dc:title>
</cp:coreProperties>
</file>