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C9E-118D-4B9B-823D-EB9206B0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D9C-B56E-4EE0-BD87-73B56ABA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99B-2A87-4775-B88B-DB47DA70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AB8-352A-4DDB-AE49-4A2B85F4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1FE-65EC-4D8D-81D2-7197DB82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FF3-0E11-44C2-8CB6-1970738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20B-4944-4817-A17F-5D5ACEAA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E89-604F-4496-B731-CD8ED996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33F-DB66-4D96-A60F-D51FD039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41C-F027-4DF5-93DE-0A74FE1A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BC6-CC8D-4667-B566-0583316D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222-AB9A-42BE-A88E-EBF76489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F552-0454-48B2-A319-52E8AD2D3B7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5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0:56Z</dcterms:created>
  <dc:creator> </dc:creator>
  <dc:description/>
  <dc:language>en-US</dc:language>
  <cp:lastModifiedBy> </cp:lastModifiedBy>
  <dcterms:modified xsi:type="dcterms:W3CDTF">2004-06-17T00:21:13Z</dcterms:modified>
  <cp:revision>1</cp:revision>
  <dc:subject/>
  <dc:title>全能的創造主 &lt;1/5&gt; Wonderful Creator</dc:title>
</cp:coreProperties>
</file>