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64EF-2F41-4F83-9B41-AC7DFA36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4AD3-0B38-4E75-9724-A4B234D6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2CA1-C0F3-4E9F-8D55-9A2CEFA4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BC2C-C3B4-407C-A4FD-79B23B917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2029-EEB6-40A5-B6FE-57EB8672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9F67-04D9-4FB6-AE99-3DEBE3B8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3C56-06D7-4C8F-A903-26673100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9245-FE80-4563-BE8D-6511BF7A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B93D-C59C-4B4D-946F-786A34FD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277F-DAEA-419D-A5DC-0FB0E43D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FDE5-9A97-4674-ABCC-BF16BBA6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B5A6-BE63-4A7C-A1D7-B724E0A1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CE4A-2B56-4B52-AB60-005BEB9A3948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耶和華祝福滿滿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2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Jehovah’s Blessings Abound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292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耶和華祝福滿滿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耶和華祝福滿滿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2/2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Jehovah’s Blessings Abound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6292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耶和華祝福滿滿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1:06:23Z</dcterms:created>
  <dc:creator> </dc:creator>
  <dc:description/>
  <dc:language>en-US</dc:language>
  <cp:lastModifiedBy> </cp:lastModifiedBy>
  <dcterms:modified xsi:type="dcterms:W3CDTF">2004-06-16T01:06:34Z</dcterms:modified>
  <cp:revision>1</cp:revision>
  <dc:subject/>
  <dc:title>耶和華祝福滿滿 (1/2) [Jehovah’s Blessings Abound]</dc:title>
</cp:coreProperties>
</file>