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491A8-64B5-4ED8-BB4A-235CE8E94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88E54-A234-4E8B-8C8A-E1DF9ABD8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5AB6C-E807-47EF-BA8C-48E988C88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0C9B1-9B8A-4A29-B023-31D8CF71B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51D30-18CA-4BAD-9933-095786309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A5681-17C9-4B09-8CEC-2428D454C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44108-3806-42BA-B927-A0795DC4E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5DF6C-43C7-447B-84DA-6054C5354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50899-8022-4047-BEDF-A5AB3B00B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8AC59-B994-42BD-B6B7-E230B287C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C3F02-6F44-4DC7-9A29-1042E17F2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7B013-DB15-4895-B752-4DFF56F0E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4FD60-5583-425B-937D-97F008E2A529}" type="slidenum">
              <a:rPr b="0" lang="zh-TW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我的救贖者活著</a:t>
            </a: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〈</a:t>
            </a: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1/4 </a:t>
            </a: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〉</a:t>
            </a:r>
            <a:br>
              <a:rPr sz="4000"/>
            </a:b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My Redeemer Liv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我的救贖者活著</a:t>
            </a: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〈</a:t>
            </a: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2/4 </a:t>
            </a: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〉</a:t>
            </a:r>
            <a:br>
              <a:rPr sz="4000"/>
            </a:b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My Redeemer Liv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我的救贖者活著</a:t>
            </a: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〈</a:t>
            </a: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3/4 </a:t>
            </a: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〉</a:t>
            </a:r>
            <a:br>
              <a:rPr sz="4000"/>
            </a:b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My Redeemer Liv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我的救贖者活著</a:t>
            </a: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〈</a:t>
            </a: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4/4 </a:t>
            </a: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〉</a:t>
            </a:r>
            <a:br>
              <a:rPr sz="4000"/>
            </a:b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My Redeemer Liv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8T23:21:40Z</dcterms:created>
  <dc:creator> </dc:creator>
  <dc:description/>
  <dc:language>en-US</dc:language>
  <cp:lastModifiedBy> </cp:lastModifiedBy>
  <dcterms:modified xsi:type="dcterms:W3CDTF">2004-06-08T23:22:00Z</dcterms:modified>
  <cp:revision>1</cp:revision>
  <dc:subject/>
  <dc:title>我的救贖者活著〈1/4 〉 My Redeemer Lives</dc:title>
</cp:coreProperties>
</file>