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257-BD9F-4792-9798-72BB4B88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29B-D408-48A8-BF74-739AE7F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00A-8E33-4AA0-9634-686AA50C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AB4-1311-4AF5-9A0B-0AB7C355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31F-DFD6-4CAF-8009-C2960ED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BCB-F38F-4870-9046-DEB272B8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79E-A24E-40F5-9820-B5E278A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472-48C4-4BF7-B474-7936E579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18E-1854-4EEE-862B-1801A79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2F0-FFD9-4606-9667-9523387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D52-4437-45F9-AB5B-E52ED32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6BB-ED49-4D4C-BD86-4543E7D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790-B25E-4D4D-9E11-0DE2A144963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9:13Z</dcterms:created>
  <dc:creator> </dc:creator>
  <dc:description/>
  <dc:language>en-US</dc:language>
  <cp:lastModifiedBy> </cp:lastModifiedBy>
  <dcterms:modified xsi:type="dcterms:W3CDTF">2004-06-15T23:39:21Z</dcterms:modified>
  <cp:revision>1</cp:revision>
  <dc:subject/>
  <dc:title>Slide 1</dc:title>
</cp:coreProperties>
</file>